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ct" ContentType="image/x-pict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D86F-94BF-400C-9885-C6CD8E488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39C9-0DDE-4A9B-8034-8B9058E46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4 Work will commence in year 2 because of dependencies on aim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 #3 Work begins January 1,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MOD/CH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ware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from MODs and other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otation vers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ata typed by OBO classes can be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cifi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notation data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trial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notype dat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do-compli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ity-attribut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B6E-3E04-41EA-95B5-E89143FFC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DB8-B3EE-4BF9-9675-BD3C8461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29F2-32E9-46CA-A798-9AEF3E04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58B6-34F4-4DEC-9364-53EAC2F5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F36-8D1D-4F8E-8CEC-700106E0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73A-F693-4A21-B7C4-26C97799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7384-1D6A-4BE0-8B67-518E2C46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DFFF-C33B-47D0-B0D5-FF40C81D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232E-ADCC-4116-86CB-3E0A5CFD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EE9-46B6-4DDF-9D0C-391238A93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7D36-E814-4D3B-BC44-56A59612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89F-D43E-4353-9DDC-950B6904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D0C-7F5F-4B14-90AC-A15F624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1700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4241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830960" indent="-2034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34BA-00E1-40C5-8A97-5294683AAECC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200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kind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ing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relationship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between these thing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mmati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nse 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ye di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393320" y="422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2664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724560" y="411480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58" name=""/>
          <p:cNvCxnSpPr>
            <a:stCxn id="51" idx="0"/>
            <a:endCxn id="48" idx="2"/>
          </p:cNvCxnSpPr>
          <p:nvPr/>
        </p:nvCxnSpPr>
        <p:spPr>
          <a:xfrm flipV="1">
            <a:off x="6248520" y="5181480"/>
            <a:ext cx="360" cy="91476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3"/>
            <a:endCxn id="52" idx="2"/>
          </p:cNvCxnSpPr>
          <p:nvPr/>
        </p:nvCxnSpPr>
        <p:spPr>
          <a:xfrm flipV="1">
            <a:off x="6934320" y="3924360"/>
            <a:ext cx="495360" cy="99072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1"/>
            <a:endCxn id="53" idx="2"/>
          </p:cNvCxnSpPr>
          <p:nvPr/>
        </p:nvCxnSpPr>
        <p:spPr>
          <a:xfrm flipH="1" flipV="1">
            <a:off x="5067000" y="3924360"/>
            <a:ext cx="496080" cy="99072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 biological ontology is: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893880" y="1600200"/>
            <a:ext cx="6456600" cy="1494000"/>
            <a:chOff x="893880" y="1600200"/>
            <a:chExt cx="6456600" cy="149400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893880" y="1600200"/>
              <a:ext cx="85248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2414880" y="18972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Dent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93880" y="3497400"/>
            <a:ext cx="6420600" cy="1008360"/>
            <a:chOff x="893880" y="3497400"/>
            <a:chExt cx="6420600" cy="1008360"/>
          </a:xfrm>
        </p:grpSpPr>
        <p:grpSp>
          <p:nvGrpSpPr>
            <p:cNvPr id="162" name=""/>
            <p:cNvGrpSpPr/>
            <p:nvPr/>
          </p:nvGrpSpPr>
          <p:grpSpPr>
            <a:xfrm>
              <a:off x="893880" y="3505320"/>
              <a:ext cx="914400" cy="761760"/>
              <a:chOff x="893880" y="3505320"/>
              <a:chExt cx="914400" cy="761760"/>
            </a:xfrm>
          </p:grpSpPr>
          <p:sp>
            <p:nvSpPr>
              <p:cNvPr id="163" name=""/>
              <p:cNvSpPr/>
              <p:nvPr/>
            </p:nvSpPr>
            <p:spPr>
              <a:xfrm>
                <a:off x="893880" y="3657600"/>
                <a:ext cx="83808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503360" y="350532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382760" y="3691080"/>
                <a:ext cx="30492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274760" y="388620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55640" y="3581280"/>
                <a:ext cx="7632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2378880" y="3497400"/>
              <a:ext cx="4935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yeasti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93520" y="4952880"/>
            <a:ext cx="7372800" cy="1422360"/>
            <a:chOff x="893520" y="4952880"/>
            <a:chExt cx="7372800" cy="1422360"/>
          </a:xfrm>
        </p:grpSpPr>
        <p:pic>
          <p:nvPicPr>
            <p:cNvPr id="170" name="" descr=""/>
            <p:cNvPicPr/>
            <p:nvPr/>
          </p:nvPicPr>
          <p:blipFill>
            <a:blip r:embed="rId2"/>
            <a:stretch/>
          </p:blipFill>
          <p:spPr>
            <a:xfrm flipH="1">
              <a:off x="893520" y="4952880"/>
              <a:ext cx="111708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2507760" y="5325840"/>
              <a:ext cx="5758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Gill Sans"/>
                </a:rPr>
                <a:t>	</a:t>
              </a:r>
              <a:r>
                <a:rPr b="1" lang="en-US" sz="3600" spc="-1" strike="noStrike">
                  <a:solidFill>
                    <a:srgbClr val="000000"/>
                  </a:solidFill>
                  <a:latin typeface="Gill Sans"/>
                </a:rPr>
                <a:t>sensu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Gill Sans"/>
                </a:rPr>
                <a:t>agronomist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adds “sensu” descriptors to discriminate among organis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8600" y="-297720"/>
            <a:ext cx="815328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synonyms for utility:</a:t>
            </a:r>
            <a:br>
              <a:rPr sz="32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How do we represent the function of tRNA?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74" name=""/>
          <p:cNvSpPr/>
          <p:nvPr/>
        </p:nvSpPr>
        <p:spPr>
          <a:xfrm>
            <a:off x="1298520" y="14428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ly, what does the tRNA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es the codon and inserts the amino acid in the growing polypept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6880" y="3008520"/>
            <a:ext cx="273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_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1800" y="4113360"/>
            <a:ext cx="57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plet_codon amino acid adaptor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0560" y="4873680"/>
            <a:ext cx="8109000" cy="161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Defini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tes the insertion of an amino acid at the corr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nt in the sequence of a nascent polypeptide chain during protein syn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onym: t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6" idx="0"/>
            <a:endCxn id="175" idx="2"/>
          </p:cNvCxnSpPr>
          <p:nvPr/>
        </p:nvCxnSpPr>
        <p:spPr>
          <a:xfrm flipV="1">
            <a:off x="4570200" y="3471120"/>
            <a:ext cx="5400" cy="639000"/>
          </a:xfrm>
          <a:prstGeom prst="straightConnector1">
            <a:avLst/>
          </a:prstGeom>
          <a:ln w="57240">
            <a:solidFill>
              <a:srgbClr val="009999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e Challenge of 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124080" y="1905120"/>
            <a:ext cx="3210120" cy="2457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72160" y="4799160"/>
            <a:ext cx="70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rganelles are membrane-b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ntrosome is not a membrane bound organel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still may be considered an organe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222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Positivity: Sometimes absence is a distinction in a Biologist’s mind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3" name=""/>
          <p:cNvSpPr/>
          <p:nvPr/>
        </p:nvSpPr>
        <p:spPr>
          <a:xfrm>
            <a:off x="465120" y="4952880"/>
            <a:ext cx="408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21280" y="4952880"/>
            <a:ext cx="365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brane-bound organ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:00432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2400" y="2362320"/>
            <a:ext cx="3210120" cy="2457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029200" y="2455920"/>
            <a:ext cx="4114800" cy="22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osi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e the logical difference betwee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n-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 an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-26856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not a membrane-bound organell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2200" indent="-3222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atter includes everything that is not a membrane bound organelle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Objectivity: Database users want to know if we don’t know anything (Exhaustiveness with respect to knowledge)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514600" y="2819520"/>
          <a:ext cx="4648320" cy="32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819520"/>
                    <a:ext cx="4648320" cy="32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28600" y="3809880"/>
            <a:ext cx="243828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a gene product wi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 to th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81080" y="4876920"/>
            <a:ext cx="53352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4800600"/>
            <a:ext cx="3808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286000" y="40384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19920" y="4648320"/>
            <a:ext cx="838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3657600"/>
            <a:ext cx="259092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n’t know any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out the ligand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nds this type of GPC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bjectivit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we use GO to annotate gene products when we know that we don’t have any information about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GO has terms in each ontology to describe unknow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alternative might be to annotate genes to root nodes and use an evidence code to describe that we have no data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strategies could be used for things like receptors where the ligand is unknow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ingle Inheritanc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has a lot of is_a diamon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incompleteness of the grap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are due to a mixture of dissimilar classes within the graph at the sam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505320" y="1600200"/>
            <a:ext cx="236196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00996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97180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Proces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06" name=""/>
          <p:cNvSpPr/>
          <p:nvPr/>
        </p:nvSpPr>
        <p:spPr>
          <a:xfrm>
            <a:off x="4035240" y="19051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67600" y="323856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15200" y="32385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42920" y="502920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4960" y="2666880"/>
            <a:ext cx="9903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4038480"/>
            <a:ext cx="5331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2666880"/>
            <a:ext cx="1143000" cy="152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62120" y="31240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s_a diamond in GO Func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19" name=""/>
          <p:cNvSpPr/>
          <p:nvPr/>
        </p:nvSpPr>
        <p:spPr>
          <a:xfrm>
            <a:off x="3373200" y="182880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070280" y="32767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92360" y="32004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4120" y="4876920"/>
            <a:ext cx="253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743200" y="2743200"/>
            <a:ext cx="9907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Three practical consider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cknowledge the substantive issues of sociology and operations to build communit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 the principles of ontology construction hygie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 is the rate-limiting step. It can be facilitated by improved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276720" y="1600200"/>
            <a:ext cx="274320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3600" y="31240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04812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 </a:t>
            </a: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Is_a diamond in GO Cellular Component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32" name=""/>
          <p:cNvSpPr/>
          <p:nvPr/>
        </p:nvSpPr>
        <p:spPr>
          <a:xfrm>
            <a:off x="3890880" y="190512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84800" y="32767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73960" y="320040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572000"/>
            <a:ext cx="38862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3800" y="487692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819520" y="2743200"/>
            <a:ext cx="91440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09680" y="4191120"/>
            <a:ext cx="6858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9920" y="40384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34120" y="2743200"/>
            <a:ext cx="7617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echnically the diamonds are correct, but could be eliminated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42" name=""/>
          <p:cNvSpPr/>
          <p:nvPr/>
        </p:nvSpPr>
        <p:spPr>
          <a:xfrm>
            <a:off x="5541840" y="1676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1200" y="163836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43920" y="19051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72400" y="1905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43640" y="308628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79400" y="3048120"/>
            <a:ext cx="320040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87560" y="313200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787360" y="313200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543640" y="43434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3440" y="4267080"/>
            <a:ext cx="3352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91280" y="43894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61040" y="43894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909440" y="5867280"/>
            <a:ext cx="53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these pairs have in comm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They are all differentiated from the parent term by a different factor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56" name=""/>
          <p:cNvSpPr/>
          <p:nvPr/>
        </p:nvSpPr>
        <p:spPr>
          <a:xfrm>
            <a:off x="5389560" y="13716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8560" y="13334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1640" y="1600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819760" y="16002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53200" y="300204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88960" y="296388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97120" y="3048120"/>
            <a:ext cx="258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ase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596920" y="3048120"/>
            <a:ext cx="24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activ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83160" y="467820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2960" y="4602240"/>
            <a:ext cx="3352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30800" y="4724280"/>
            <a:ext cx="31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membrane b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00920" y="4724280"/>
            <a:ext cx="173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0160" y="236232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behavior vs. what is be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51840" y="40384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regulated vs. type of reg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760760" y="5791320"/>
            <a:ext cx="581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of organelle vs. location of orga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382920" y="838080"/>
            <a:ext cx="23623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3962520"/>
            <a:ext cx="2971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3848040"/>
            <a:ext cx="320040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Insert an intermediate grouping term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75" name=""/>
          <p:cNvSpPr/>
          <p:nvPr/>
        </p:nvSpPr>
        <p:spPr>
          <a:xfrm>
            <a:off x="3912840" y="1143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5320" y="41148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972400" y="41911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3360" y="5181480"/>
            <a:ext cx="3886200" cy="1295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3080" y="5638680"/>
            <a:ext cx="37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val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32767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81080" y="4952880"/>
            <a:ext cx="53352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629400" y="502920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086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1981080"/>
            <a:ext cx="2286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75800" y="2057400"/>
            <a:ext cx="16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2057400"/>
            <a:ext cx="289548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9600" y="2141640"/>
            <a:ext cx="163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144792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514240" y="144792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28600" y="3274920"/>
            <a:ext cx="2209680" cy="685800"/>
            <a:chOff x="228600" y="3274920"/>
            <a:chExt cx="2209680" cy="685800"/>
          </a:xfrm>
        </p:grpSpPr>
        <p:sp>
          <p:nvSpPr>
            <p:cNvPr id="294" name=""/>
            <p:cNvSpPr/>
            <p:nvPr/>
          </p:nvSpPr>
          <p:spPr>
            <a:xfrm>
              <a:off x="228600" y="327492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29400" y="344952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81200" y="3218040"/>
            <a:ext cx="1981080" cy="799920"/>
            <a:chOff x="2581200" y="3218040"/>
            <a:chExt cx="1981080" cy="799920"/>
          </a:xfrm>
        </p:grpSpPr>
        <p:sp>
          <p:nvSpPr>
            <p:cNvPr id="297" name=""/>
            <p:cNvSpPr/>
            <p:nvPr/>
          </p:nvSpPr>
          <p:spPr>
            <a:xfrm>
              <a:off x="25812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66680" y="344952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1981080" y="2133720"/>
            <a:ext cx="190512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8320" y="2286000"/>
            <a:ext cx="990360" cy="838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07000" y="3218040"/>
            <a:ext cx="1981080" cy="799920"/>
            <a:chOff x="4707000" y="3218040"/>
            <a:chExt cx="1981080" cy="799920"/>
          </a:xfrm>
        </p:grpSpPr>
        <p:sp>
          <p:nvSpPr>
            <p:cNvPr id="302" name=""/>
            <p:cNvSpPr/>
            <p:nvPr/>
          </p:nvSpPr>
          <p:spPr>
            <a:xfrm>
              <a:off x="4707000" y="321804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842000" y="344952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832440" y="3218040"/>
            <a:ext cx="1981440" cy="799920"/>
            <a:chOff x="6832440" y="3218040"/>
            <a:chExt cx="1981440" cy="799920"/>
          </a:xfrm>
        </p:grpSpPr>
        <p:sp>
          <p:nvSpPr>
            <p:cNvPr id="305" name=""/>
            <p:cNvSpPr/>
            <p:nvPr/>
          </p:nvSpPr>
          <p:spPr>
            <a:xfrm>
              <a:off x="6832440" y="3218040"/>
              <a:ext cx="198144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3280" y="344952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>
            <a:off x="3809520" y="2286000"/>
            <a:ext cx="22860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57800" y="2133720"/>
            <a:ext cx="205740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38360" y="449568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structure of this graph, locomotory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the same relationship to larv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o 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Why insert terms that no one would use?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11" name=""/>
          <p:cNvSpPr/>
          <p:nvPr/>
        </p:nvSpPr>
        <p:spPr>
          <a:xfrm>
            <a:off x="3871800" y="1579680"/>
            <a:ext cx="129564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061160" y="17524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28600" y="4267080"/>
            <a:ext cx="2209680" cy="685800"/>
            <a:chOff x="228600" y="4267080"/>
            <a:chExt cx="2209680" cy="685800"/>
          </a:xfrm>
        </p:grpSpPr>
        <p:sp>
          <p:nvSpPr>
            <p:cNvPr id="314" name=""/>
            <p:cNvSpPr/>
            <p:nvPr/>
          </p:nvSpPr>
          <p:spPr>
            <a:xfrm>
              <a:off x="228600" y="4267080"/>
              <a:ext cx="2209680" cy="6858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7960" y="44416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ocomotory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648320" y="4191120"/>
            <a:ext cx="1981080" cy="799920"/>
            <a:chOff x="4648320" y="4191120"/>
            <a:chExt cx="1981080" cy="799920"/>
          </a:xfrm>
        </p:grpSpPr>
        <p:sp>
          <p:nvSpPr>
            <p:cNvPr id="317" name=""/>
            <p:cNvSpPr/>
            <p:nvPr/>
          </p:nvSpPr>
          <p:spPr>
            <a:xfrm>
              <a:off x="46483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33800" y="4422600"/>
              <a:ext cx="150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arval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 flipH="1">
            <a:off x="2666520" y="2133720"/>
            <a:ext cx="114300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181480" y="2057400"/>
            <a:ext cx="8384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2590920" y="4191120"/>
            <a:ext cx="1981080" cy="799920"/>
            <a:chOff x="2590920" y="4191120"/>
            <a:chExt cx="1981080" cy="799920"/>
          </a:xfrm>
        </p:grpSpPr>
        <p:sp>
          <p:nvSpPr>
            <p:cNvPr id="322" name=""/>
            <p:cNvSpPr/>
            <p:nvPr/>
          </p:nvSpPr>
          <p:spPr>
            <a:xfrm>
              <a:off x="259092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5920" y="4422600"/>
              <a:ext cx="178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hythmic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858000" y="4191120"/>
            <a:ext cx="1981080" cy="799920"/>
            <a:chOff x="6858000" y="4191120"/>
            <a:chExt cx="1981080" cy="799920"/>
          </a:xfrm>
        </p:grpSpPr>
        <p:sp>
          <p:nvSpPr>
            <p:cNvPr id="325" name=""/>
            <p:cNvSpPr/>
            <p:nvPr/>
          </p:nvSpPr>
          <p:spPr>
            <a:xfrm>
              <a:off x="6858000" y="4191120"/>
              <a:ext cx="1981080" cy="799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88120" y="4422600"/>
              <a:ext cx="145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ult behavi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flipH="1">
            <a:off x="1371600" y="3505320"/>
            <a:ext cx="4572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6858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72440" y="5334120"/>
            <a:ext cx="71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ctually, locomotory behavior/rhythmic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larval behavior/adult behavior group natur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2743200"/>
            <a:ext cx="138600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449000" y="2819520"/>
            <a:ext cx="118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29200" y="2514600"/>
            <a:ext cx="1462320" cy="104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73640" y="2666880"/>
            <a:ext cx="98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38280" y="3505320"/>
            <a:ext cx="4572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019920" y="3657600"/>
            <a:ext cx="38088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3560" y="1828800"/>
            <a:ext cx="762012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type of single step differentiation of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levels would allow us to use d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tween nodes and levels to compare similar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GO Definition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04920" y="1752480"/>
          <a:ext cx="5638680" cy="16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5638680" cy="16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304920" y="3581280"/>
          <a:ext cx="5438520" cy="127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5438520" cy="12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380880" y="4952880"/>
          <a:ext cx="5878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952880"/>
                    <a:ext cx="5878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>
            <a:off x="304920" y="3581280"/>
            <a:ext cx="556236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638680" y="1203840"/>
            <a:ext cx="3465720" cy="2459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finition written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iolog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&amp; su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ritte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not 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5840" y="4106880"/>
            <a:ext cx="3011400" cy="2071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structur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cessary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(comput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and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et of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is determined by the grap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can be considered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ia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efini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consideration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lacement in the graph- selecting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ropriate relationships to different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ue path vio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477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importance of relationship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001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yclin dependent protein kin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 has a catalytic and a regulatory subuni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represent these activities (function) in the ontology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we need a new relationship type (regulates)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1525320" y="3554280"/>
            <a:ext cx="19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alytic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720" y="4011480"/>
            <a:ext cx="244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26080" y="4621320"/>
            <a:ext cx="32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Ser/Thr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-4320" y="5383080"/>
            <a:ext cx="429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736360" y="5992920"/>
            <a:ext cx="52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in dependent 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32480" y="3124080"/>
            <a:ext cx="22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lecular_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103720" y="3782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zym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21040" y="454500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in kinase regulato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971800" y="3429000"/>
            <a:ext cx="9144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2209320" y="3886200"/>
            <a:ext cx="228600" cy="2286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523880" y="4343400"/>
            <a:ext cx="457200" cy="3808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761760" y="4876920"/>
            <a:ext cx="533160" cy="60948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181480" y="3429000"/>
            <a:ext cx="1067040" cy="45720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553080" y="4114800"/>
            <a:ext cx="609840" cy="53352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629400" y="4876920"/>
            <a:ext cx="457200" cy="1218960"/>
          </a:xfrm>
          <a:prstGeom prst="line">
            <a:avLst/>
          </a:prstGeom>
          <a:ln w="5724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lationships provide the computable defini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definition of a class lower down in the hierarchy is provided by specifying the parent of the class together with the relevant differentia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 tells us what marks out instances of the defined class within the wider parent class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8760" y="61722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Drosophi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73392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eting the goal: Drawing infere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68" name=""/>
          <p:cNvSpPr/>
          <p:nvPr/>
        </p:nvSpPr>
        <p:spPr>
          <a:xfrm>
            <a:off x="1938240" y="2819520"/>
            <a:ext cx="83844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8748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2362320"/>
            <a:ext cx="8763120" cy="1218960"/>
          </a:xfrm>
          <a:prstGeom prst="parallelogram">
            <a:avLst>
              <a:gd name="adj" fmla="val -1373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7500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2424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11760" y="2819520"/>
            <a:ext cx="838080" cy="304560"/>
          </a:xfrm>
          <a:prstGeom prst="ellipse">
            <a:avLst/>
          </a:prstGeom>
          <a:solidFill>
            <a:srgbClr val="f6c8b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61000" y="2971800"/>
            <a:ext cx="53352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2819520"/>
            <a:ext cx="838080" cy="30456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6588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23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88240" y="251460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87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34040" y="25146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193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13440" y="2438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764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55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6120" y="193032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444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388620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8680" y="434340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40384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3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5410080"/>
            <a:ext cx="8763120" cy="1219320"/>
          </a:xfrm>
          <a:prstGeom prst="parallelogram">
            <a:avLst>
              <a:gd name="adj" fmla="val -137346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9868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8280" y="6019920"/>
            <a:ext cx="533160" cy="0"/>
          </a:xfrm>
          <a:prstGeom prst="line">
            <a:avLst/>
          </a:prstGeom>
          <a:ln w="76320">
            <a:solidFill>
              <a:srgbClr val="80808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35440" y="5867280"/>
            <a:ext cx="83844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4964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482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10160" y="5562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:389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2178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215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8360" y="210492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60640" y="2122560"/>
            <a:ext cx="178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81480" y="3200040"/>
            <a:ext cx="0" cy="2438280"/>
          </a:xfrm>
          <a:prstGeom prst="line">
            <a:avLst/>
          </a:prstGeom>
          <a:ln w="381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24040" y="35812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57560" y="510552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Indirect ev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7640" y="43434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897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8360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95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69800" y="6095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MID:39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971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048120" y="6095880"/>
            <a:ext cx="3045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5638320" y="609588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1880" y="3147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Hu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3040" y="4672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Xeno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Structured definitions contain both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genus</a:t>
            </a: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 and </a:t>
            </a:r>
            <a:r>
              <a:rPr b="1" lang="en-US" sz="3200" spc="-1" strike="noStrike">
                <a:solidFill>
                  <a:srgbClr val="6599cd"/>
                </a:solidFill>
                <a:latin typeface="Gill Sans"/>
              </a:rPr>
              <a:t>differentiae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04920" y="2057400"/>
          <a:ext cx="4162320" cy="75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057400"/>
                    <a:ext cx="4162320" cy="75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306720" y="31212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ce = Genus + Differenti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9240" y="3730680"/>
            <a:ext cx="7698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n cell differentiation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enti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rocesses whereby a rela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pecialized cell acquires the specialized features of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s features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u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4560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27040" y="3006720"/>
            <a:ext cx="5562720" cy="1828800"/>
            <a:chOff x="527040" y="3006720"/>
            <a:chExt cx="5562720" cy="1828800"/>
          </a:xfrm>
        </p:grpSpPr>
        <p:sp>
          <p:nvSpPr>
            <p:cNvPr id="375" name=""/>
            <p:cNvSpPr/>
            <p:nvPr/>
          </p:nvSpPr>
          <p:spPr>
            <a:xfrm>
              <a:off x="527040" y="3006720"/>
              <a:ext cx="556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d: CL:000006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name: osteobla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def: "A bone-forming cell which secretes an extracellular matrix. Hydroxyapatite crystals are then deposited into the matrix to form bone." [MESH:A.11.329.629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is_a: CL:000005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00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 Unicode MS"/>
                </a:rPr>
                <a:t>relationship: develops_from CL:000037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7040" y="3006720"/>
              <a:ext cx="5334120" cy="18288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7214760" y="18288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60520" y="37162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1000" y="5638680"/>
            <a:ext cx="21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32840" y="253044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32840" y="4799160"/>
            <a:ext cx="4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27040" y="5267160"/>
            <a:ext cx="541008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oblast differentiation: Processes whereby an osteoprogenitor cell or a cranial neural crest cell acquires the specialized features of an osteoblast, a bone-forming cell which secretes extracellular matri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527040" y="1482840"/>
            <a:ext cx="5334120" cy="1143000"/>
            <a:chOff x="527040" y="1482840"/>
            <a:chExt cx="5334120" cy="1143000"/>
          </a:xfrm>
        </p:grpSpPr>
        <p:graphicFrame>
          <p:nvGraphicFramePr>
            <p:cNvPr id="384" name=""/>
            <p:cNvGraphicFramePr/>
            <p:nvPr/>
          </p:nvGraphicFramePr>
          <p:xfrm>
            <a:off x="527040" y="1482840"/>
            <a:ext cx="5334120" cy="1143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7040" y="1482840"/>
                      <a:ext cx="5334120" cy="1143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86" name=""/>
            <p:cNvSpPr/>
            <p:nvPr/>
          </p:nvSpPr>
          <p:spPr>
            <a:xfrm>
              <a:off x="527040" y="1482840"/>
              <a:ext cx="5334120" cy="1143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599cd"/>
                </a:solidFill>
                <a:latin typeface="Gill Sans"/>
              </a:rPr>
              <a:t>Alignment of the Two Ontologies will permit the generation of consistent and complete definitions</a:t>
            </a:r>
            <a:endParaRPr b="0" lang="en-US" sz="36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>
            <a:off x="1031760" y="2148120"/>
            <a:ext cx="7086600" cy="2480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GO:00016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: osteoblast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onym: osteoblast cell 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s: differentiation GO:0030154 (differenti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um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cquires_features_o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CL:0000062 (osteobl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(text): Processes whereby a relatively unspecialized cell acquires the specialized features of an osteoblast, the mesodermal cell that gives rise to b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5103720"/>
            <a:ext cx="82296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 definitions with necessary and sufficient conditions, in both human readable and computer readable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Basis in Reality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 is designed by a consortiu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s long as egos don’t get in the way, GO represents universals rather than concept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arge-scale developments of the GO are a result of compromi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 Annotators have a large say in GO con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are experts in their field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ors constantly read the scientific literatur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762120" y="1676520"/>
            <a:ext cx="8001000" cy="2819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, since GO is representing a science,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ually represents paradig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fore, it is essential that GO is able to chan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lasses and Instanc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should we create a new class as opposed to multiple annotation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91600" indent="-29160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the the biology represents a universal principal. Receptor signaling protein tyrosine kinase activity does not represent receptor signaling protein activity and tyrosine kinase activity independently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nsequences of inconsistenci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ard to synchronize manual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requires text min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consistent user-search resul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blems likely to resurface with other ontologies embedded in the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, prote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ultiple species-specific anatomic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 ontologies should inform 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binatorial annot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llow combinatorial annotations in appropriate 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henotypic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tail fi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lacemen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ventraliz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t stag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pharyngula:prim25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atorial G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g “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activation of MAP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mesenchy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AmiGO will allow for these annot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verview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llowing basic rules helps make better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will work through the principles-based treatment of relations in ontologies, to show how ontologies can become more reliable and more powerfu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3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66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nimal diseas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380880" y="52056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PA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telo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opla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hypertroph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Gill Sans"/>
              </a:rPr>
              <a:t>ZF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mid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kidn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4320" y="2100240"/>
            <a:ext cx="438696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61200" y="316872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(phenotype and trait ontolog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hen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(clinical sign)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entit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ey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tel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midface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oplas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 kidney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+   hypertrophi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Syndrome =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+ 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Gill San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(dise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=  holoprosenceph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34720" y="6094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65796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shh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721920" y="6094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ill Sans"/>
              </a:rPr>
              <a:t>oep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Why do we need rules for good ontology?</a:t>
            </a:r>
            <a:endParaRPr b="0" lang="en-US" sz="40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must be intelligible both to humans (for annotation) and to machines (for reasoning and error-checking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nintuitive rules for classification lead to entry errors (problematic link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cilitate training of curato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vercome obstacles to alignment with other ontology and terminology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nhance harvesting of content through automatic reasoning syste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152280" y="1066680"/>
            <a:ext cx="8839440" cy="49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2" name=""/>
          <p:cNvGraphicFramePr/>
          <p:nvPr/>
        </p:nvGraphicFramePr>
        <p:xfrm>
          <a:off x="228600" y="1143000"/>
          <a:ext cx="8686800" cy="4699080"/>
        </p:xfrm>
        <a:graphic>
          <a:graphicData uri="http://schemas.openxmlformats.org/drawingml/2006/table">
            <a:tbl>
              <a:tblPr/>
              <a:tblGrid>
                <a:gridCol w="914400"/>
                <a:gridCol w="762120"/>
                <a:gridCol w="914400"/>
                <a:gridCol w="934920"/>
                <a:gridCol w="893880"/>
                <a:gridCol w="761760"/>
                <a:gridCol w="457200"/>
                <a:gridCol w="609840"/>
                <a:gridCol w="2438280"/>
              </a:tblGrid>
              <a:tr h="57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h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B</a:t>
            </a:r>
            <a:r>
              <a:rPr b="0" i="1" lang="en-US" sz="4400" spc="-1" strike="noStrike">
                <a:solidFill>
                  <a:srgbClr val="6599cd"/>
                </a:solidFill>
                <a:latin typeface="Brush Script MT"/>
              </a:rPr>
              <a:t>i</a:t>
            </a: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 Bioinformatics Goal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y th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ftware toolkit for “annotation”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 the dat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base and interface to store &amp; view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vestigate and compa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inking human diseases to genetic mode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intai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891360" indent="-479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going reconciliation of ontologies with annot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7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y requi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ntolog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ical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pecies-specif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ntology integr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mantic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view of proposed (2003) EAV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henotype is described using an Entity-Attribute-Value trip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iar “slot-value” frame-based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ntities are drawn from various OBO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ttributes and Values in one ontology - PAT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eparation of concer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ot pheno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otyp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ssay, measurement syst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616680" y="487692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232080" y="4302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sche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2003 Pilot stud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ial of EAV model on small collection of genotyp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lyBas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Z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s were non-orthologo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ew curations - in progr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thologous genes with clinical relevanc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the same data model and exchange format?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Example data record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990720" y="2438280"/>
          <a:ext cx="6103800" cy="2971800"/>
        </p:xfrm>
        <a:graphic>
          <a:graphicData uri="http://schemas.openxmlformats.org/drawingml/2006/table">
            <a:tbl>
              <a:tblPr/>
              <a:tblGrid>
                <a:gridCol w="1523880"/>
                <a:gridCol w="838080"/>
                <a:gridCol w="1836720"/>
                <a:gridCol w="1905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ZFIN schema extension: 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2438280"/>
          <a:ext cx="8466120" cy="2971800"/>
        </p:xfrm>
        <a:graphic>
          <a:graphicData uri="http://schemas.openxmlformats.org/drawingml/2006/table">
            <a:tbl>
              <a:tblPr/>
              <a:tblGrid>
                <a:gridCol w="1352520"/>
                <a:gridCol w="2762280"/>
                <a:gridCol w="1295640"/>
                <a:gridCol w="1371600"/>
                <a:gridCol w="16840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Pec-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Hatching:Long-p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Larval:Protruding-mo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tag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40720" y="3429000"/>
            <a:ext cx="703872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ge*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g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AnatomicalStage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| Valu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521680" y="60958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* means zero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943600" y="1879560"/>
            <a:ext cx="2514600" cy="1015920"/>
          </a:xfrm>
          <a:prstGeom prst="cloudCallout">
            <a:avLst>
              <a:gd name="adj1" fmla="val -73296"/>
              <a:gd name="adj2" fmla="val 8640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641760" y="1843200"/>
            <a:ext cx="1865160" cy="761760"/>
          </a:xfrm>
          <a:prstGeom prst="cloudCallout">
            <a:avLst>
              <a:gd name="adj1" fmla="val -1662"/>
              <a:gd name="adj2" fmla="val -15208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814320" y="1879560"/>
            <a:ext cx="1852560" cy="863640"/>
          </a:xfrm>
          <a:prstGeom prst="cloudCallout">
            <a:avLst>
              <a:gd name="adj1" fmla="val -111870"/>
              <a:gd name="adj2" fmla="val 1261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13000" y="324468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3240" y="4648320"/>
            <a:ext cx="2664000" cy="1711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120" y="4568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599cd"/>
                </a:solidFill>
                <a:latin typeface="Gill Sans"/>
              </a:rPr>
              <a:t>The Challenge of Univocity:</a:t>
            </a:r>
            <a:br>
              <a:rPr sz="4000"/>
            </a:b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People call the same thing by different name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ation of the schema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should EAV data records be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interprete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by a computer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are the instanc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s the EAV schema just to improve database searchin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it be used for meaningful cross-species comparison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Entity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practical term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 ID from one of the following ontolog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CC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BP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O M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pecies-specific anatomical ontolog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BO Cell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 cross-produc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cidification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GO:0045851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hich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location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OBOR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Gill Sans"/>
              </a:rPr>
              <a:t>L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midgut 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Gill Sans"/>
              </a:rPr>
              <a:t>FBbt00005383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[example from FBal0062296: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Acidification in the midgut of homozygous larvae is often less than in wild-type larvae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ut what does 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n the context of an annotation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Universals and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ntology consist of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univers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lass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mental data generally concern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icular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stances) that instantiate universa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ng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of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uitfly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 participating in this particula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ligh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from here to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n annotation we often use a class ID as a proxy for an (unnamed) instance (or collection of instances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t is important to always keep this distinction in min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424560" cy="495288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an Entity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48240" y="190512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UBO - Upper Bio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BFO - Basic Formal Ont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What is the Attribute slot used fo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"/>
          <p:cNvSpPr/>
          <p:nvPr/>
        </p:nvSpPr>
        <p:spPr>
          <a:xfrm>
            <a:off x="5531760" y="624852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03 trial data: FB &amp; ZF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s: a proposa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eat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Qual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ependent entit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 quality must have </a:t>
            </a: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ndependent entity(s)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s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heres_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he bear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hap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ball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tructur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is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tai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particula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r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synaptic transmission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tween these two neur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ttribute universals vs Attribute particular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Formal Theory of Substances, Qualities,  and Univers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bian NEUHAUS Pierre GRENON Barry SM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How is the value slot used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228600" y="2438280"/>
          <a:ext cx="8305920" cy="3645000"/>
        </p:xfrm>
        <a:graphic>
          <a:graphicData uri="http://schemas.openxmlformats.org/drawingml/2006/table">
            <a:tbl>
              <a:tblPr/>
              <a:tblGrid>
                <a:gridCol w="1660680"/>
                <a:gridCol w="1554120"/>
                <a:gridCol w="2498760"/>
                <a:gridCol w="25923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en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ttrib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ysplasti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g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t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atter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irregu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r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f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tm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d/v pattern 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qualit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bnorm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lood isla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relative 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number incr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sb[2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elongation of arista lit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rres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C-alpha[1D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adult behavio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behavioral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Lucida Grande"/>
                        </a:rPr>
                        <a:t>uncoord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Redundancy in EAV tripl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18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30960" y="1811160"/>
            <a:ext cx="2493720" cy="1160640"/>
          </a:xfrm>
          <a:prstGeom prst="cloudCallout">
            <a:avLst>
              <a:gd name="adj1" fmla="val -72967"/>
              <a:gd name="adj2" fmla="val 912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le se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936880" y="1751760"/>
            <a:ext cx="1870200" cy="871560"/>
          </a:xfrm>
          <a:prstGeom prst="cloudCallout">
            <a:avLst>
              <a:gd name="adj1" fmla="val 16245"/>
              <a:gd name="adj2" fmla="val -1274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27880" y="1811160"/>
            <a:ext cx="1435320" cy="928800"/>
          </a:xfrm>
          <a:prstGeom prst="cloudCallout">
            <a:avLst>
              <a:gd name="adj1" fmla="val -125726"/>
              <a:gd name="adj2" fmla="val 12135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124080" y="4673520"/>
            <a:ext cx="2494080" cy="195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90560" y="3817800"/>
            <a:ext cx="59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ption of touch ; GO:0050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40040" y="4656240"/>
            <a:ext cx="372960" cy="2887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95928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063880" y="331956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303960" y="477216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50280" y="3900600"/>
            <a:ext cx="37440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2000" y="3262320"/>
            <a:ext cx="374760" cy="290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Univocity: GO uses 1 term and many characterized synonym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1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al: EA model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graphicFrame>
        <p:nvGraphicFramePr>
          <p:cNvPr id="523" name=""/>
          <p:cNvGraphicFramePr/>
          <p:nvPr/>
        </p:nvGraphicFramePr>
        <p:xfrm>
          <a:off x="685800" y="1905120"/>
          <a:ext cx="7391520" cy="3047760"/>
        </p:xfrm>
        <a:graphic>
          <a:graphicData uri="http://schemas.openxmlformats.org/drawingml/2006/table">
            <a:tbl>
              <a:tblPr/>
              <a:tblGrid>
                <a:gridCol w="2133720"/>
                <a:gridCol w="2743200"/>
                <a:gridCol w="2514600"/>
              </a:tblGrid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irregular sha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ey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color h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esenchy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thick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h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retinal cel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08080"/>
                          </a:solidFill>
                          <a:latin typeface="Gill Sans"/>
                        </a:rPr>
                        <a:t>relative orien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disori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4" name=""/>
          <p:cNvSpPr/>
          <p:nvPr/>
        </p:nvSpPr>
        <p:spPr>
          <a:xfrm>
            <a:off x="2895480" y="2133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76932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Proposed schema modification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5791320" y="3200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onadic and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adic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a single ent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quality/attribute inheres in two or more entiti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organism to a kind of drug 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nsitivity of an eye to a wavelength of 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an turn relational attributes into cross-product monadic attribut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sensitivityToRedLight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etter to use relational attribut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avoids redundancy with existing ontologie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45280" y="2666880"/>
            <a:ext cx="7038720" cy="1362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tity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relational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44560" y="5029200"/>
            <a:ext cx="525564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rganism” sensitiveTo “puromycin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Measurable attribut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inexact and implicitly relative to a wild-type or normal attribu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latively short, relatively long, relatively reduc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asier than explicitly represent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tail length shorter-than ‘canonical mouse’ wild-type tail length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me attributes are determinabl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e a measure func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nit, value, {time}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tail has length L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measure(L, cm) = 2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ep measurements separate from (but linked to) attribut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corporating measurement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>
            <a:off x="844920" y="2666880"/>
            <a:ext cx="7861680" cy="1694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Stage* Entity Attribute Entity*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easuremen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asurement = Unit Value (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ttribute =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PATOVersion2Clas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1160" y="46483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ample data reco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45280" y="5029200"/>
            <a:ext cx="5392800" cy="69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enotyp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ut” “acidic” Measurement = “pH” 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Composite phenotype clas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ammalian phenotype has composite phenotype class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.g. “reduced B cell number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mpose at annotation time or ontology curation time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alse dichotom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re 2 will help map between composite class based annotation and E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notations are data record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ically use class I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icitly refer to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 we map an annotation to insta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mportant for using annotations computationall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1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an EA (or EAV) annotatio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mea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brain” A=“fused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sumed implied meaning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s_part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brain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fused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organism has a fused brain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built-in assump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2324160" y="1905120"/>
            <a:ext cx="4365000" cy="1493640"/>
            <a:chOff x="2324160" y="1905120"/>
            <a:chExt cx="4365000" cy="149364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324160" y="1905120"/>
              <a:ext cx="852480" cy="149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4158360" y="22082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327400" y="3808440"/>
            <a:ext cx="4358160" cy="763560"/>
            <a:chOff x="2327400" y="3808440"/>
            <a:chExt cx="4358160" cy="763560"/>
          </a:xfrm>
        </p:grpSpPr>
        <p:grpSp>
          <p:nvGrpSpPr>
            <p:cNvPr id="132" name=""/>
            <p:cNvGrpSpPr/>
            <p:nvPr/>
          </p:nvGrpSpPr>
          <p:grpSpPr>
            <a:xfrm>
              <a:off x="2327400" y="3810240"/>
              <a:ext cx="913680" cy="761760"/>
              <a:chOff x="2327400" y="3810240"/>
              <a:chExt cx="913680" cy="7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2327400" y="3962520"/>
                <a:ext cx="837720" cy="6094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36520" y="381024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815920" y="3996000"/>
                <a:ext cx="304560" cy="3045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bbe0e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07920" y="419112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88800" y="3886200"/>
                <a:ext cx="75960" cy="76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4154760" y="380844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289240" y="5105520"/>
            <a:ext cx="4434840" cy="1422360"/>
            <a:chOff x="2289240" y="5105520"/>
            <a:chExt cx="4434840" cy="142236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 flipH="1">
              <a:off x="2289240" y="5105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193280" y="5484960"/>
              <a:ext cx="25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 bud initiat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599cd"/>
                </a:solidFill>
                <a:latin typeface="Gill Sans"/>
              </a:rPr>
              <a:t>The Challenge of Univocity: People use the same words to describe different things</a:t>
            </a:r>
            <a:endParaRPr b="0" lang="en-US" sz="3200" spc="-1" strike="noStrike">
              <a:solidFill>
                <a:srgbClr val="6599cd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fly98 has_part x, w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(this organism has_part x, where x instance_of “wing”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)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Genotype=“FBal00123” E=“wing” A=“absent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instance_of “wing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x has_quality “absent”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fly has a wing which is not ther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this organism has_quality “wingless”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wingless” = the property of having count(has_part “wing”)=0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re our computational representations intended to capture linguistic statements or reality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Does this matter?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ogical reasoners will compute incorrect resul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nless explicitly provided with specific rules for certain attributes such as “absen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at are the consequences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asic search will be f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“find all wing phenotypes”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ut computers will not be able to reason correct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85800" y="27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5800" y="170172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=“digit” A=“supernumer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interpretation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digi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supernume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finger which is supernum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person has_quality “supernumery finge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upernumery finger” =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he property of hav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ount(has_part “digit”) &gt; wild-typ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87240" y="1296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Interpreting annotations (IV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87240" y="1461960"/>
            <a:ext cx="7772400" cy="53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does this me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t=“mp001” E=“brown fat cell” A=“increased quant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same mapping as annotation 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x, 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instance_of “brown fat cel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x has_quality “increased quant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r in natural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really inte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is organism has_part population_of(“brown fat cell”) which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as_qualit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ncreased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ther use cas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permatocyte devoid of ast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creased distance between wing vei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 vs 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Alternate perspectives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vs stat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ory process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cidification of midgut has_quality reduced rat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idgut has_quality low acidit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velopment vs behavio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ng development has_quality abnorm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light has_quality intermitt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anularity (scal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emical vs molecular vs cell vs tissue vs anatomical pa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Summary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ine attributes in terms of instan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 proposed new schem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easurement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al attribute propos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lexity trade-of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reate library of use cas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e2 will create tools to present user-friendly lay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perspective annotations are usefu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51000" y="4138560"/>
            <a:ext cx="3048120" cy="25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919240" y="316872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 initiation?  How is a computer to k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23960" y="228600"/>
            <a:ext cx="1752480" cy="1981080"/>
            <a:chOff x="723960" y="228600"/>
            <a:chExt cx="1752480" cy="1981080"/>
          </a:xfrm>
        </p:grpSpPr>
        <p:sp>
          <p:nvSpPr>
            <p:cNvPr id="146" name=""/>
            <p:cNvSpPr/>
            <p:nvPr/>
          </p:nvSpPr>
          <p:spPr>
            <a:xfrm flipH="1">
              <a:off x="723960" y="228600"/>
              <a:ext cx="1752480" cy="1981080"/>
            </a:xfrm>
            <a:prstGeom prst="cloudCallout">
              <a:avLst>
                <a:gd name="adj1" fmla="val -121833"/>
                <a:gd name="adj2" fmla="val 9294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1257120" y="457200"/>
              <a:ext cx="852480" cy="149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" name=""/>
          <p:cNvSpPr/>
          <p:nvPr/>
        </p:nvSpPr>
        <p:spPr>
          <a:xfrm>
            <a:off x="3505320" y="685800"/>
            <a:ext cx="83808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3200400" y="152280"/>
            <a:ext cx="1981080" cy="1447920"/>
            <a:chOff x="3200400" y="152280"/>
            <a:chExt cx="1981080" cy="1447920"/>
          </a:xfrm>
        </p:grpSpPr>
        <p:sp>
          <p:nvSpPr>
            <p:cNvPr id="150" name=""/>
            <p:cNvSpPr/>
            <p:nvPr/>
          </p:nvSpPr>
          <p:spPr>
            <a:xfrm flipV="1">
              <a:off x="3200400" y="151920"/>
              <a:ext cx="1981080" cy="1447920"/>
            </a:xfrm>
            <a:prstGeom prst="cloudCallout">
              <a:avLst>
                <a:gd name="adj1" fmla="val 8092"/>
                <a:gd name="adj2" fmla="val -1484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67080" y="53352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6480" y="719280"/>
              <a:ext cx="304920" cy="304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38480" y="91440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9360" y="609480"/>
              <a:ext cx="76320" cy="76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905440" y="228600"/>
            <a:ext cx="2514600" cy="2057400"/>
            <a:chOff x="5905440" y="228600"/>
            <a:chExt cx="2514600" cy="2057400"/>
          </a:xfrm>
        </p:grpSpPr>
        <p:sp>
          <p:nvSpPr>
            <p:cNvPr id="156" name=""/>
            <p:cNvSpPr/>
            <p:nvPr/>
          </p:nvSpPr>
          <p:spPr>
            <a:xfrm>
              <a:off x="5905440" y="228600"/>
              <a:ext cx="2514600" cy="2057400"/>
            </a:xfrm>
            <a:prstGeom prst="cloudCallout">
              <a:avLst>
                <a:gd name="adj1" fmla="val -78662"/>
                <a:gd name="adj2" fmla="val 8603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7" name="" descr=""/>
            <p:cNvPicPr/>
            <p:nvPr/>
          </p:nvPicPr>
          <p:blipFill>
            <a:blip r:embed="rId3"/>
            <a:stretch/>
          </p:blipFill>
          <p:spPr>
            <a:xfrm flipH="1">
              <a:off x="6591240" y="533520"/>
              <a:ext cx="1117440" cy="142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ntologies must adapt over time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ting it righ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at we know about biology is continually growing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is “</a:t>
            </a:r>
            <a:r>
              <a:rPr b="0" i="1" lang="en-US" sz="2400" spc="-1" strike="noStrike">
                <a:solidFill>
                  <a:srgbClr val="0000ff"/>
                </a:solidFill>
                <a:latin typeface="Gill Sans"/>
              </a:rPr>
              <a:t>standar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” requires versionin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67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69" name=""/>
            <p:cNvCxnSpPr>
              <a:stCxn id="567" idx="2"/>
              <a:endCxn id="568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70" name=""/>
            <p:cNvCxnSpPr>
              <a:stCxn id="568" idx="2"/>
              <a:endCxn id="567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599cd"/>
                </a:solidFill>
                <a:latin typeface="Gill Sans"/>
              </a:rPr>
              <a:t>Our Outlook</a:t>
            </a:r>
            <a:endParaRPr b="0" lang="en-US" sz="4400" spc="-1" strike="noStrike">
              <a:solidFill>
                <a:srgbClr val="6599cd"/>
              </a:solidFill>
              <a:latin typeface="Gill San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needs of the many outweigh the needs of the few, or of the one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22:49:13Z</dcterms:created>
  <dc:creator>Suzanna Lewis</dc:creator>
  <dc:description/>
  <dc:language>en-US</dc:language>
  <cp:lastModifiedBy>Suzanna Lewis</cp:lastModifiedBy>
  <cp:lastPrinted>2005-12-14T03:57:15Z</cp:lastPrinted>
  <dcterms:modified xsi:type="dcterms:W3CDTF">2006-03-05T23:23:32Z</dcterms:modified>
  <cp:revision>233</cp:revision>
  <dc:subject/>
  <dc:title>All ontology content developers need</dc:title>
</cp:coreProperties>
</file>